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33.jpeg" ContentType="image/jpeg"/>
  <Override PartName="/ppt/media/image45.png" ContentType="image/png"/>
  <Override PartName="/ppt/media/image32.jpeg" ContentType="image/jpeg"/>
  <Override PartName="/ppt/media/image38.jpeg" ContentType="image/jpeg"/>
  <Override PartName="/ppt/media/image46.png" ContentType="image/png"/>
  <Override PartName="/ppt/media/image48.jpeg" ContentType="image/jpeg"/>
  <Override PartName="/ppt/media/image53.jpeg" ContentType="image/jpeg"/>
  <Override PartName="/ppt/media/image31.png" ContentType="image/png"/>
  <Override PartName="/ppt/media/image47.jpeg" ContentType="image/jpeg"/>
  <Override PartName="/ppt/media/image55.png" ContentType="image/png"/>
  <Override PartName="/ppt/media/image56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5.png" ContentType="image/png"/>
  <Override PartName="/ppt/media/image43.jpeg" ContentType="image/jpeg"/>
  <Override PartName="/ppt/media/image9.png" ContentType="image/png"/>
  <Override PartName="/ppt/media/image39.png" ContentType="image/png"/>
  <Override PartName="/ppt/media/image11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4.png" ContentType="image/png"/>
  <Override PartName="/ppt/media/image34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12760" y="694800"/>
            <a:ext cx="4633920" cy="347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916E3B0-3F59-4E62-9A58-10A58AA5C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12760" y="6951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C0AA747-5D76-415D-89EB-0E1AE3621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FE6-D73A-4A2A-8A65-C684BB6A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D96-6798-4DBA-8008-E3A13E27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49E-5C97-4C12-AD82-9FC8CC51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BAB-83F8-4708-850F-07046F46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FDE4-353D-4B73-8133-2DD89898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7BA5-F74B-4C05-80B9-E8365CFC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399E-1FB7-4113-9FDB-DB35068D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E8F4-DA29-4382-B949-16215E21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3F9B-194B-49B3-983A-DA4926EA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5A8A-2955-49D7-BCFD-DA93C11C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427C-019E-4B2E-8AA8-D839DD13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68A-298D-424A-B9BE-0832A226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DDE2-D807-42F5-887B-A597393B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327B-E431-4F7C-B370-2A1093FA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A79B-692B-4DC0-95EF-C9864EC7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32D1-6DBD-40F5-99DD-E720B55B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4919-FE98-4753-8E9B-4B04CE02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799C-A9B7-4DBD-B357-5D912FC5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5F88-AE9F-49C7-BEB8-C9877CD6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FAF10-B6EB-4D46-8630-59CC90DB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6B90D-2544-422D-8D59-9B662A1A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47BB0-C762-47BF-AF1D-0673829F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402-4334-4A31-90D3-DBA8627D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9AA2F-9D8A-4D43-8C40-B9859CCE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0067F-D06C-4A1A-9EB0-66218384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1D168-7F8B-4E8E-B982-EC8DA72E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2D8B-6281-4F49-8306-12C051C7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6657-2A68-4F1F-AB03-00E78D7C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3DDEE-3864-445D-81F6-F0C764B4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98BEB-BE86-4C01-BAFB-567FB8BD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2703E-2F30-4FCF-8318-A9D41CE7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31598-6D9E-48E4-AB96-0193B038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4920C-BA52-4D24-991D-450689FB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EAE-D36B-4F61-BCF7-3EA86426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0CF9A-05AC-4918-8AC7-2BF3E0BC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66F6B-F3EF-44B4-B1A2-0E361A78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C0971-2DCD-448A-B3D0-49DF4E9E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1977B-4D1E-4F74-8CB2-5362C83F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55360-28EB-4F62-98B7-D7F01F41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C0D47-D1EE-463E-A4C3-380E5A25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34506-E370-4763-B4EE-B0AEC906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27FE6-6A3F-4E15-B635-5DF5BF76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7811B-E146-4F3B-BF61-8FCE00CB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F1EE3-DF79-4996-A4C8-8FA6B645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599-E9DC-4A15-BA1E-BFD37134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D8D42-E05F-477A-9DBB-0D88E735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A51DA-881F-4D8A-8637-AABB4229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FECD0-F183-4DFB-83CD-50F2ADAD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DCED4-E37B-41C2-819A-0D6D9477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CF5DD-9324-4C42-9E2F-E892EA29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AC196-750F-4AFF-9FD8-A330989F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081D6-CD37-4C73-9EF9-F7680CEE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B548E-6AE8-47BC-ACDA-A21A59EA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6D179-119E-420C-B511-E6D17FA0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B613B-ECD6-45A8-AF13-154A83CA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1B6-5B56-4F4D-B9AA-5AFB3560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0ECCA-7139-4714-A161-E98B9350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9C106-EC0D-4282-B3BC-7418558D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61DE1-5721-4830-9382-D969CEBD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54B6F-6ACD-4378-878E-7BA67416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743BF-76B5-417D-819F-B037747A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16EC9-9B2D-483E-810C-8BE43D87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21295-A948-4CC4-9419-5DF788DD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708B2-ED9F-4D02-99A4-F93F0357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4BAD8-766A-4D73-9ED5-227EDC13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FDF9A-A452-4927-BB9E-ED9A434A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48C-4511-43A1-ABE8-63E60FC6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1F6AC-2951-4D67-8D55-E75B2C70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91E1E-35B7-4BCB-B6C6-88493E39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E1321-A03F-4151-B510-FAB21657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62C-C9C1-4958-9A90-FDE02BC3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859-D5BB-4D0A-87C4-E5613689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C1D2-33DF-45F3-BEC7-4EE2F3CA56E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24"/>
          <p:cNvSpPr/>
          <p:nvPr/>
        </p:nvSpPr>
        <p:spPr>
          <a:xfrm>
            <a:off x="380880" y="2286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27" descr="JACOBSLOGO"/>
          <p:cNvPicPr/>
          <p:nvPr/>
        </p:nvPicPr>
        <p:blipFill>
          <a:blip r:embed="rId4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BC62-D0D4-406A-A343-F606AF27EBD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73E3-6FA5-4DDC-B2F4-7B1717AEF06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7122-724C-40A0-9749-F68AEAA13EF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B30F-45CC-4A27-83DE-6AB7EC53501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0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2BA2-5B36-41E3-85C0-861949331B7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2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53.jpeg"/><Relationship Id="rId5" Type="http://schemas.openxmlformats.org/officeDocument/2006/relationships/image" Target="../media/image2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762120" y="195120"/>
            <a:ext cx="7437240" cy="16401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0"/>
          <p:cNvSpPr/>
          <p:nvPr/>
        </p:nvSpPr>
        <p:spPr>
          <a:xfrm>
            <a:off x="3733920" y="4419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2f2f2"/>
                </a:solidFill>
                <a:latin typeface="Tahoma"/>
                <a:cs typeface="Tahoma"/>
              </a:rPr>
              <a:t>سامر سحتو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4724280" y="571500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جامعة دمش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/2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68580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  <a:cs typeface="Tahoma"/>
              </a:rPr>
              <a:t>استخدام طرائق الرص العميق لتحسين الترب القابلة للتمي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838080" y="3200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ementation of Deep Compaction Techniques for Liquefiable Soil Remed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Picture 8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أضرا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فع للأعل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فوران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4" descr="C:\Documents and Settings\moffatbs\My Documents\My Pictures\images.jpg"/>
          <p:cNvPicPr/>
          <p:nvPr/>
        </p:nvPicPr>
        <p:blipFill>
          <a:blip r:embed="rId2"/>
          <a:stretch/>
        </p:blipFill>
        <p:spPr>
          <a:xfrm>
            <a:off x="5257800" y="4038480"/>
            <a:ext cx="2743200" cy="2051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C:\Documents and Settings\moffatbs\My Documents\My Pictures\liquefactionconcretetank.jpg"/>
          <p:cNvPicPr/>
          <p:nvPr/>
        </p:nvPicPr>
        <p:blipFill>
          <a:blip r:embed="rId3"/>
          <a:stretch/>
        </p:blipFill>
        <p:spPr>
          <a:xfrm>
            <a:off x="1219320" y="3733920"/>
            <a:ext cx="3733560" cy="2479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C:\Documents and Settings\moffatbs\My Documents\My Pictures\sandboil12.jpg"/>
          <p:cNvPicPr/>
          <p:nvPr/>
        </p:nvPicPr>
        <p:blipFill>
          <a:blip r:embed="rId4"/>
          <a:srcRect l="0" t="0" r="4514" b="6403"/>
          <a:stretch/>
        </p:blipFill>
        <p:spPr>
          <a:xfrm>
            <a:off x="1905120" y="1905120"/>
            <a:ext cx="3276360" cy="2192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36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99DD-F88F-4952-BF79-BE377126260F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050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أضرا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نقصان قدرة تحمل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هبوط الزائ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و التفاضل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2052" descr="C:\Documents and Settings\moffatbs\My Documents\My Pictures\portdam.jpg"/>
          <p:cNvPicPr/>
          <p:nvPr/>
        </p:nvPicPr>
        <p:blipFill>
          <a:blip r:embed="rId2"/>
          <a:stretch/>
        </p:blipFill>
        <p:spPr>
          <a:xfrm>
            <a:off x="1066680" y="4648320"/>
            <a:ext cx="2819520" cy="1876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053" descr="C:\Documents and Settings\moffatbs\My Documents\My Pictures\tiltedbuilding2.jpg"/>
          <p:cNvPicPr/>
          <p:nvPr/>
        </p:nvPicPr>
        <p:blipFill>
          <a:blip r:embed="rId3"/>
          <a:srcRect l="0" t="0" r="5253" b="6742"/>
          <a:stretch/>
        </p:blipFill>
        <p:spPr>
          <a:xfrm>
            <a:off x="1371600" y="15238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055" descr="C:\Documents and Settings\moffatbs\My Documents\My Pictures\liquef_2.jpg"/>
          <p:cNvPicPr/>
          <p:nvPr/>
        </p:nvPicPr>
        <p:blipFill>
          <a:blip r:embed="rId4"/>
          <a:srcRect l="1693" t="44364" r="55070" b="6470"/>
          <a:stretch/>
        </p:blipFill>
        <p:spPr>
          <a:xfrm>
            <a:off x="3657600" y="3429000"/>
            <a:ext cx="2249640" cy="1836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43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5C7C-3005-4259-B5B7-042601F3F831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ea typeface="Tahoma"/>
              </a:rPr>
              <a:t>”ابتعد“ – هجر الموقع؛ عدم البناء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ea typeface="Tahoma"/>
              </a:rPr>
              <a:t>”الموافقة“ – دفع تكاليف الصيان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ea typeface="Tahoma"/>
              </a:rPr>
              <a:t>”التأقلم“ – إنشائي؛ جيوتكنيك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3ACC-A73D-4E30-B713-520384FE9DC2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إنشائيا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طاوعة إضاف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ساند مرن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أوتاد ضخمة أو قيصونات قادرة على تحمل القوى الجانب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أساسات ذات صلادة عال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ربط الأساسات المنفردة مع بعضها لزيادة صلادتها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9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51" name="Slide Number Placeholder 10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CA50-1486-4ACC-A99A-2CF903033100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جيوتكنيكيا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ستبدال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ص بالاهتزا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استبدال بالاهتزا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ص الديناميك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ص بالتفجي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أنظمة تصريف الميا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55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E3AE-EFE6-49A5-9189-316BD9AF45A1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ستبدال الترب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4" descr="C:\Documents and Settings\moffatbs\My Documents\My Pictures\23.jpg"/>
          <p:cNvPicPr/>
          <p:nvPr/>
        </p:nvPicPr>
        <p:blipFill>
          <a:blip r:embed="rId2"/>
          <a:srcRect l="0" t="23471" r="0" b="0"/>
          <a:stretch/>
        </p:blipFill>
        <p:spPr>
          <a:xfrm>
            <a:off x="3886200" y="3048120"/>
            <a:ext cx="4800600" cy="2743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C:\Documents and Settings\moffatbs\My Documents\My Pictures\CAW7IJ6J.jpg"/>
          <p:cNvPicPr/>
          <p:nvPr/>
        </p:nvPicPr>
        <p:blipFill>
          <a:blip r:embed="rId3"/>
          <a:stretch/>
        </p:blipFill>
        <p:spPr>
          <a:xfrm>
            <a:off x="1447920" y="5029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C:\Documents and Settings\moffatbs\My Documents\My Pictures\test.jpg"/>
          <p:cNvPicPr/>
          <p:nvPr/>
        </p:nvPicPr>
        <p:blipFill>
          <a:blip r:embed="rId4"/>
          <a:stretch/>
        </p:blipFill>
        <p:spPr>
          <a:xfrm>
            <a:off x="1066680" y="1828800"/>
            <a:ext cx="3017880" cy="2765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62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64CF-6DC3-42E1-B254-411FEFEB165F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لمساحات الصغير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لأعماق القليل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نتفاء إمكانية حدوث التميع مجددا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لسرع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سلبي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طريقة غير صديقة للبيئ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أحجام ترحيل وجلب كبير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تزداد الكلفة كلما ازداد العمق و المساح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66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3F23-E23A-4F48-B8A5-498B1321F0CA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رص بالاهتزاز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bro-Comp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7148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4" descr="dry1"/>
          <p:cNvPicPr/>
          <p:nvPr/>
        </p:nvPicPr>
        <p:blipFill>
          <a:blip r:embed="rId2"/>
          <a:stretch/>
        </p:blipFill>
        <p:spPr>
          <a:xfrm>
            <a:off x="1066680" y="2819520"/>
            <a:ext cx="2219400" cy="25146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7"/>
          <p:cNvSpPr/>
          <p:nvPr/>
        </p:nvSpPr>
        <p:spPr>
          <a:xfrm>
            <a:off x="375768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Picture 6" descr="dry2"/>
          <p:cNvPicPr/>
          <p:nvPr/>
        </p:nvPicPr>
        <p:blipFill>
          <a:blip r:embed="rId3"/>
          <a:stretch/>
        </p:blipFill>
        <p:spPr>
          <a:xfrm>
            <a:off x="3657600" y="3733920"/>
            <a:ext cx="2251080" cy="25146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9"/>
          <p:cNvSpPr/>
          <p:nvPr/>
        </p:nvSpPr>
        <p:spPr>
          <a:xfrm>
            <a:off x="37670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Picture 8" descr="dry3"/>
          <p:cNvPicPr/>
          <p:nvPr/>
        </p:nvPicPr>
        <p:blipFill>
          <a:blip r:embed="rId4"/>
          <a:stretch/>
        </p:blipFill>
        <p:spPr>
          <a:xfrm>
            <a:off x="6248520" y="2819520"/>
            <a:ext cx="2225520" cy="25146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0"/>
          <p:cNvSpPr/>
          <p:nvPr/>
        </p:nvSpPr>
        <p:spPr>
          <a:xfrm>
            <a:off x="838080" y="5486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دخال مسبر الاهتزا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3733920" y="32767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ضافة المواد المالئ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6172200" y="5410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نتهاء تشكيل العمود الرم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6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17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B3F3-F4A0-4B81-8B8A-D5A9E24D527A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حبيبية العميقة ضعيفة التماسك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يصل العمق الفعال للرص حتى 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30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 متر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تي تحوي على نسبة من النواعم لاتزيد عن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12-15%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مدى الاهتزاز عادة 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2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5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 دقائ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لاهتزاز الأفقي أفضل من الاهتزاز الشاقولي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لكثافة النسبية التي يمكن الوصول لها 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70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90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%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2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83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4DBF-D96E-4711-AAF8-B08BFC3A64EF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لا تترافق مع موجات صدم مؤذية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تؤمن التراص الدائم (حل جذري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قتصادية و فعالة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Corbel"/>
                <a:cs typeface="Tahoma"/>
              </a:rPr>
              <a:t>العيوب أو السلبيات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توفر حد أدنى من الضغط الشاقولي في التربة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(تربة عميقة نسبياً يعتمد على الجاذبية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مدى الانتشار الصغير (تتطلب عدد كبير من السبور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لاتؤمن الأعمدة الرملية أي تقوية للتربة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8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B910-A5F9-486A-8C92-2F9DCF469E6E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تزايد السكان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رتفاع أسعار الأراض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مخاطر التأسيس على هذا النوع من التر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1" name="Picture 3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79D7-DCE0-46BB-8E4E-03AAF384B2D3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517240" cy="14511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10663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ادة الردم ذات تدرج حبي جي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دى التأثير لا يتجاوز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6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 حول المسب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باعدات بشكل عام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5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0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 من المرك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91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B76B-60D1-40CE-855C-F562BE60325F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393" name="Vibro Compaction.wmv" descr=""/>
          <p:cNvPicPr/>
          <p:nvPr/>
        </p:nvPicPr>
        <p:blipFill>
          <a:blip r:embed="rId2"/>
          <a:stretch/>
        </p:blipFill>
        <p:spPr>
          <a:xfrm>
            <a:off x="2838600" y="1801800"/>
            <a:ext cx="3466800" cy="4572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95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F659-96FE-4C80-8D0B-FD1019B79A7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استبدال بالاهتزاز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bro-Replac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37148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375768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37670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91440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دخال رأس الاهتزا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6553080" y="57913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تشكل العمود الحج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39816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Picture 13" descr="wettop1"/>
          <p:cNvPicPr/>
          <p:nvPr/>
        </p:nvPicPr>
        <p:blipFill>
          <a:blip r:embed="rId2"/>
          <a:stretch/>
        </p:blipFill>
        <p:spPr>
          <a:xfrm>
            <a:off x="990720" y="2666880"/>
            <a:ext cx="1584360" cy="198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6"/>
          <p:cNvSpPr/>
          <p:nvPr/>
        </p:nvSpPr>
        <p:spPr>
          <a:xfrm>
            <a:off x="398628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15" descr="wettop2"/>
          <p:cNvPicPr/>
          <p:nvPr/>
        </p:nvPicPr>
        <p:blipFill>
          <a:blip r:embed="rId3"/>
          <a:stretch/>
        </p:blipFill>
        <p:spPr>
          <a:xfrm>
            <a:off x="2819520" y="2971800"/>
            <a:ext cx="1582560" cy="19810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8"/>
          <p:cNvSpPr/>
          <p:nvPr/>
        </p:nvSpPr>
        <p:spPr>
          <a:xfrm>
            <a:off x="397656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8" name="Picture 17" descr="wettop3"/>
          <p:cNvPicPr/>
          <p:nvPr/>
        </p:nvPicPr>
        <p:blipFill>
          <a:blip r:embed="rId4"/>
          <a:stretch/>
        </p:blipFill>
        <p:spPr>
          <a:xfrm>
            <a:off x="4648320" y="3352680"/>
            <a:ext cx="1619280" cy="198144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20"/>
          <p:cNvSpPr/>
          <p:nvPr/>
        </p:nvSpPr>
        <p:spPr>
          <a:xfrm>
            <a:off x="398628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Picture 19" descr="wettop4"/>
          <p:cNvPicPr/>
          <p:nvPr/>
        </p:nvPicPr>
        <p:blipFill>
          <a:blip r:embed="rId5"/>
          <a:stretch/>
        </p:blipFill>
        <p:spPr>
          <a:xfrm>
            <a:off x="6553080" y="3733920"/>
            <a:ext cx="1592280" cy="19810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23"/>
          <p:cNvSpPr/>
          <p:nvPr/>
        </p:nvSpPr>
        <p:spPr>
          <a:xfrm>
            <a:off x="2743200" y="49528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تشكيل الحفرة بضخ الهواء او الما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4648320" y="5410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ضافة مادة الرد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3" name="Picture 23" descr="damascus logo.jpg"/>
          <p:cNvPicPr/>
          <p:nvPr/>
        </p:nvPicPr>
        <p:blipFill>
          <a:blip r:embed="rId6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14" name="Slide Number Placeholder 2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D947-802A-46D5-8E7D-1E0B7253963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ناعمة و المتماسك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مشبعة التي تحوي نسبة نواعم أكبر من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2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عمق الرص يصل حتى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7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18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68C2-0B24-4D08-9D99-0727C19A50B2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 و الإيجابيات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أمين تقوية دنيا ل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شكيل مصارات تصريف إضافية للميا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زيادة قدرة تحمل التربة على الضغط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قليل الهبوطات المتوقع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زيادة مقاومة القص للترب الغضارية الطر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1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22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1C52-134A-4A6F-A2CA-B68E36B85870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سلبيات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مكن أن تسد مسارات التصريف و تملئ بالمواد الناعم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تعطي أي مقاومة لقوى الرف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 تفيد في حالات الخث الطري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ft Peat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أو الغضا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ay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فوق حد السيول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quid Lim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5" name="Picture 8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26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0B1F-89FC-48D8-9322-A51E6B938FA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1066680" y="19807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استخدام مادة ردم ذات تدرج حبي جيد و حبيبات حادة الشك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تم تجهيز الحفرة إما بالهواء المضغوط أي بضخ الماء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تعمد مدى الفائدة على التباعد بين الحف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قطار عادة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7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0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دى التأثير يصل إلى أربع أضعاف قطر العمو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9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B2E0-D1D0-4DC4-B163-CAF7A9CDEEFA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2000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ضخ الماء/ التغذية العلو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كمية المياه الجارية كبي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3595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4" descr="vibro-replacement_2_3_0001"/>
          <p:cNvPicPr/>
          <p:nvPr/>
        </p:nvPicPr>
        <p:blipFill>
          <a:blip r:embed="rId2"/>
          <a:srcRect l="4911" t="948" r="6096" b="3600"/>
          <a:stretch/>
        </p:blipFill>
        <p:spPr>
          <a:xfrm>
            <a:off x="762120" y="1676520"/>
            <a:ext cx="2620800" cy="35496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7"/>
          <p:cNvSpPr/>
          <p:nvPr/>
        </p:nvSpPr>
        <p:spPr>
          <a:xfrm>
            <a:off x="293832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Picture 6" descr="vibro-replacement_3_2_0001"/>
          <p:cNvPicPr/>
          <p:nvPr/>
        </p:nvPicPr>
        <p:blipFill>
          <a:blip r:embed="rId3"/>
          <a:srcRect l="1654" t="2658" r="1506" b="4421"/>
          <a:stretch/>
        </p:blipFill>
        <p:spPr>
          <a:xfrm>
            <a:off x="3505320" y="3886200"/>
            <a:ext cx="3751200" cy="27702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1" descr="damascus logo.jpg"/>
          <p:cNvPicPr/>
          <p:nvPr/>
        </p:nvPicPr>
        <p:blipFill>
          <a:blip r:embed="rId4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38" name="Slide Number Placeholder 12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616E-D45A-498D-8CA9-BE0ECD53D18D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بدائل.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حجر المرصوص (الاستبدال الديناميكي)/ حفر محاطة بقمصان و يتم رمي الأحجار من الأعلى ثم يتم رصها ديناميك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عمدة الصغيرة: بقطر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2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، أسرع في التنفيذ وتعطي توفيراً بالكلفة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2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2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عمدة الكبيرة: يستعمل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4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رؤوس اهتزاز في نفس الوقت و تصل مساحة العمود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0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</a:t>
            </a:r>
            <a:r>
              <a:rPr b="0" lang="ar-SY" sz="2800" spc="-1" strike="noStrike" baseline="30000">
                <a:solidFill>
                  <a:srgbClr val="000000"/>
                </a:solidFill>
                <a:latin typeface="Corbel"/>
                <a:ea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1" name="Picture 9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10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F9F4-5C5D-40DD-9E3A-D73FCAF54BA2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44" name="YouTube - Vibro Replacemnt - Top Feed.wmv" descr=""/>
          <p:cNvPicPr/>
          <p:nvPr/>
        </p:nvPicPr>
        <p:blipFill>
          <a:blip r:embed="rId2"/>
          <a:stretch/>
        </p:blipFill>
        <p:spPr>
          <a:xfrm>
            <a:off x="2838600" y="1801800"/>
            <a:ext cx="3466800" cy="45720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46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FEE0-8B49-430B-816D-820D13EC051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مقدم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ميع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ضرار و المخاط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تقنيات تقليل الاضرار و المخاط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طرق انشائ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طرق جيوتكنيك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 u="sng">
                <a:solidFill>
                  <a:srgbClr val="c00000"/>
                </a:solidFill>
                <a:uFillTx/>
                <a:latin typeface="Corbel"/>
                <a:cs typeface="Tahoma"/>
              </a:rPr>
              <a:t>طرائق الرص العميق الحقلي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استنتاجات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5231-B539-40EB-BD37-F7538DF03871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Picture 4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رص الديناميكي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ynamic Comp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36385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0" name="Picture 4" descr="deepcompac"/>
          <p:cNvPicPr/>
          <p:nvPr/>
        </p:nvPicPr>
        <p:blipFill>
          <a:blip r:embed="rId2"/>
          <a:srcRect l="0" t="0" r="7230" b="4644"/>
          <a:stretch/>
        </p:blipFill>
        <p:spPr>
          <a:xfrm>
            <a:off x="6705720" y="3200400"/>
            <a:ext cx="2203200" cy="28195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373860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Picture 6" descr="dc"/>
          <p:cNvPicPr/>
          <p:nvPr/>
        </p:nvPicPr>
        <p:blipFill>
          <a:blip r:embed="rId3"/>
          <a:stretch/>
        </p:blipFill>
        <p:spPr>
          <a:xfrm>
            <a:off x="457200" y="2895480"/>
            <a:ext cx="1978200" cy="27432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9" descr="C:\Documents and Settings\moffatbs\My Documents\My Pictures\4901.jpg"/>
          <p:cNvPicPr/>
          <p:nvPr/>
        </p:nvPicPr>
        <p:blipFill>
          <a:blip r:embed="rId4"/>
          <a:stretch/>
        </p:blipFill>
        <p:spPr>
          <a:xfrm>
            <a:off x="4648320" y="2666880"/>
            <a:ext cx="1922400" cy="28195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0" descr="C:\Documents and Settings\moffatbs\My Documents\My Pictures\DynamcCompB.jpg"/>
          <p:cNvPicPr/>
          <p:nvPr/>
        </p:nvPicPr>
        <p:blipFill>
          <a:blip r:embed="rId5"/>
          <a:stretch/>
        </p:blipFill>
        <p:spPr>
          <a:xfrm>
            <a:off x="2590920" y="3657600"/>
            <a:ext cx="1969920" cy="27828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3" descr="damascus logo.jpg"/>
          <p:cNvPicPr/>
          <p:nvPr/>
        </p:nvPicPr>
        <p:blipFill>
          <a:blip r:embed="rId6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56" name="Slide Number Placeholder 1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105F-CD6A-4F36-943B-974FF6BFB636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مل المخلل، الردميات، مخلفات المناجم، الترب الانخفاسية، مكبات النفاي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صل العمق حتى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2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تستخدم عادة في المناطق المأهول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سافة أمان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4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متر عن المنشآت المجاو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9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60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65B1-029A-4010-A1BE-B878686EB2E8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609120" y="17524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عتبر رخيصة و غير مكلفة نسبي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عيو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عدائية جد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العمل على عدة مسارات لتأمين الارتصاص المستم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قد تؤدي إلى موجات صدم على المنشآت المجاو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تطلب المراقبة الجدية و المستمرة للهبوطات في المنشآت المجاو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123D-FA22-4692-A061-47EA20C29C5E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 algn="r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تم السقوط من ارتفاع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6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وزان تصل إلى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4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طن؛ شكل الوزن ليس له تأثي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تحديد مسارات الطرق لابد من توفر نتائج التحريات الجيوتكنيكية و خصوصاً وضعية الطبق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حد الأعلى الاقتصادي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ضربات في الموق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دراسة مدى تأثير الاهتزازت على المنشآت المحيط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وضع برنامج لعمل الرافع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A026-F1FF-42CF-93CC-014382AE59AA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70" name="YouTube - Dynamic Compaction.wmv" descr=""/>
          <p:cNvPicPr/>
          <p:nvPr/>
        </p:nvPicPr>
        <p:blipFill>
          <a:blip r:embed="rId2"/>
          <a:stretch/>
        </p:blipFill>
        <p:spPr>
          <a:xfrm>
            <a:off x="2838600" y="1801800"/>
            <a:ext cx="3466800" cy="457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72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9A11-0CB5-46D1-B940-72D8AA727AE1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6" dur="1" fill="hold"/>
                                        <p:tgtEl>
                                          <p:spTgt spid="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74" name="Dynamic Compaction2.wmv" descr=""/>
          <p:cNvPicPr/>
          <p:nvPr/>
        </p:nvPicPr>
        <p:blipFill>
          <a:blip r:embed="rId2"/>
          <a:stretch/>
        </p:blipFill>
        <p:spPr>
          <a:xfrm>
            <a:off x="1523880" y="18018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5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76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4955-1B7B-412B-BCBA-511BD8282DC2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2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رص بالتفجير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plosive Comp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31813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9" name="Picture 10" descr="C:\Documents and Settings\moffatbs\My Documents\My Pictures\Mt%20St%20helens.jpg"/>
          <p:cNvPicPr/>
          <p:nvPr/>
        </p:nvPicPr>
        <p:blipFill>
          <a:blip r:embed="rId1"/>
          <a:stretch/>
        </p:blipFill>
        <p:spPr>
          <a:xfrm>
            <a:off x="4114800" y="39625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9" descr="C:\Documents and Settings\moffatbs\My Documents\My Pictures\flash2-pic.jpg"/>
          <p:cNvPicPr/>
          <p:nvPr/>
        </p:nvPicPr>
        <p:blipFill>
          <a:blip r:embed="rId2"/>
          <a:srcRect l="0" t="2305" r="0" b="0"/>
          <a:stretch/>
        </p:blipFill>
        <p:spPr>
          <a:xfrm>
            <a:off x="609480" y="2438280"/>
            <a:ext cx="3733920" cy="2492640"/>
          </a:xfrm>
          <a:prstGeom prst="rect">
            <a:avLst/>
          </a:prstGeom>
          <a:ln w="0">
            <a:noFill/>
          </a:ln>
        </p:spPr>
      </p:pic>
      <p:pic>
        <p:nvPicPr>
          <p:cNvPr id="481" name="Rectangle 2" descr=""/>
          <p:cNvPicPr/>
          <p:nvPr/>
        </p:nvPicPr>
        <p:blipFill>
          <a:blip r:embed="rId3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0" descr="damascus logo.jpg"/>
          <p:cNvPicPr/>
          <p:nvPr/>
        </p:nvPicPr>
        <p:blipFill>
          <a:blip r:embed="rId4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83" name="Slide Number Placeholder 1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7E20-D9BA-4A91-BFF2-0F9F5D508D2A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مخللة، عديمة التماسك، المشبعة بالماء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قابلة للتصريف بشكل ح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فعالية مع العم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6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8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612A-BD8D-4AE3-9C0C-AAF3497F7449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كلف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عالجة كامل الطبقة القابلة للتمي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حدودة الانتشار ومسيطر عليها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بالتصميم الجيد فإنه يمكن استخدامها فقط ضمن حدود المنشأ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91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A949-3D36-4D4F-BCDF-4A5E0C79AC3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عيو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وجود نسبة من النواعم في التربة تعيق التصري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طبقات ذات التماسك تمنع تسريب ضغط الماء الإضافي و تخمد الاهتزاز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أمين وقت فاصل بين كل تفجير و الذي يليه بحدود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دقيق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تحليل كل طبقات التربة و معرفة خصائصها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FE7D-B604-44E6-853A-11DDA0683DC1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106632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عندما يختل التوازن الستاتيكي للتربة إما من خلال حمولة متكررة أو تحميل ديناميكي مما يجعل التربة تسلك سلوك اقرب إلى الأوساط السائلة و تبتعد عن كونها جسم صلب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9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B0C7-AE49-4F89-84CA-0247CC23379C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تجفي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مضخات العميق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آبار نخفيض الضغط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خناد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أنظمة التصري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99" name="Slide Number Placeholder 10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6893-1225-4B97-B976-529DBA04FE5E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أنظمة تصريف المياه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01" name="Picture 4" descr="northernwick2"/>
          <p:cNvPicPr/>
          <p:nvPr/>
        </p:nvPicPr>
        <p:blipFill>
          <a:blip r:embed="rId1"/>
          <a:srcRect l="1064" t="530" r="641" b="2167"/>
          <a:stretch/>
        </p:blipFill>
        <p:spPr>
          <a:xfrm>
            <a:off x="609480" y="1752480"/>
            <a:ext cx="4038840" cy="2273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C:\Documents and Settings\moffatbs\My Documents\My Pictures\drain_01.jpg"/>
          <p:cNvPicPr/>
          <p:nvPr/>
        </p:nvPicPr>
        <p:blipFill>
          <a:blip r:embed="rId2"/>
          <a:stretch/>
        </p:blipFill>
        <p:spPr>
          <a:xfrm>
            <a:off x="5638680" y="2590920"/>
            <a:ext cx="2527560" cy="38098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C:\Documents and Settings\moffatbs\My Documents\My Pictures\Drain_02.bmp"/>
          <p:cNvPicPr/>
          <p:nvPr/>
        </p:nvPicPr>
        <p:blipFill>
          <a:blip r:embed="rId3"/>
          <a:stretch/>
        </p:blipFill>
        <p:spPr>
          <a:xfrm>
            <a:off x="2895480" y="4495680"/>
            <a:ext cx="3048120" cy="2028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C:\Documents and Settings\moffatbs\My Documents\My Pictures\Drain_03.jpg"/>
          <p:cNvPicPr/>
          <p:nvPr/>
        </p:nvPicPr>
        <p:blipFill>
          <a:blip r:embed="rId4"/>
          <a:srcRect l="0" t="0" r="0" b="1312"/>
          <a:stretch/>
        </p:blipFill>
        <p:spPr>
          <a:xfrm>
            <a:off x="304920" y="3809880"/>
            <a:ext cx="2836800" cy="1978200"/>
          </a:xfrm>
          <a:prstGeom prst="rect">
            <a:avLst/>
          </a:prstGeom>
          <a:ln w="0">
            <a:noFill/>
          </a:ln>
        </p:spPr>
      </p:pic>
      <p:pic>
        <p:nvPicPr>
          <p:cNvPr id="505" name="Rectangle 2" descr=""/>
          <p:cNvPicPr/>
          <p:nvPr/>
        </p:nvPicPr>
        <p:blipFill>
          <a:blip r:embed="rId5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damascus logo.jpg"/>
          <p:cNvPicPr/>
          <p:nvPr/>
        </p:nvPicPr>
        <p:blipFill>
          <a:blip r:embed="rId6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07" name="Slide Number Placeholder 12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2B33-E61C-4721-A18D-03A2BC93FFCC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990360" y="188136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إلغاء قابلية التمي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قصير طول مسار التصريف الطبيعي و دعم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سريعة التنفي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عيو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في حال الهزات الشديدة قد تكون سرعة التصريف أقل من سرعة تولد الضغط المسام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حصول الهبوطات؛ تأمين المطاوعة الكافية إنشائي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تطلب نظام تصريف ثانوي سطح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0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11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84CC-553F-4856-9CAA-8947A9929AFE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عادة ما تستعمل مع طريقة أخرى من المذكورين سابق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نفاذية المصرف يجب أن تكون أكبر من نفاذية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أن نضمن عملها من خلال تصميمها بفراغات لايمكن أن تسد بحيبات التربة و تسمح للحبيبات الناعمة بالمرو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اختبارها و التأكد من عدم انسدادها اثناء التنفي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15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8089-D064-46AF-801B-A188C8DBA5D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1066320" y="198072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عوامل المؤثر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خصائص التربة في الموق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سهولة التنفي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ثر البيئ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أثيرات على المنشآت المجاو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نوع المنشأ و أهميت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عمق المطلوب معالجت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كلفة الاقتصاد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8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D96A-406A-48B7-AAE1-69DC183B818F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اجراءات الواجب اتباعها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اجراء التجارب الحقلية قبل و بعد اجراء المعالجة و ذلك لمعرفة مقدار التحسين الحاصل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تجربة الاختراق النظامية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P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تجربة اختراق المخروط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P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تجارب التحميل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ن المهم إجراء التحريات و الاختبارات الجيوتكنيكية اللازمة للموقع قبل اختيار طريقة المعالجة للترب القابلة للتميع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FC0B-F4E6-47B0-8273-C9F65A41944B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rbel"/>
              </a:rPr>
              <a:t>Practical Foundation Engineering Handbook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Brown, Robert Wade, McGraw-Hill, Inc., New York, NY 1995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rbel"/>
              </a:rPr>
              <a:t>Soil Remediation Techniques for Reduction of Earthquake-Induced Liquefaction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rbel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 Barbara S. Moffat, PE,  Jacobs Civil Inc. American Society of </a:t>
            </a:r>
            <a:r>
              <a:rPr b="0" i="1" lang="en-US" sz="2500" spc="-1" strike="noStrike">
                <a:solidFill>
                  <a:srgbClr val="000000"/>
                </a:solidFill>
                <a:latin typeface="Corbel"/>
              </a:rPr>
              <a:t>Civil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Engineers2006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rbel"/>
              </a:rPr>
              <a:t>Handbook on Liquefaction Remediation of Reclaimed Land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Corbel"/>
              </a:rPr>
              <a:t>Edited by Port and Harbour Research Institute, Ministry of Transport, Japan; Translated by US Army Corps of Engineers, USA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A.A.Balkema, Rotterdam, Netherlands (1997)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6" name="Picture 4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2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D39C-561D-4613-A022-237FE52AFE73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Corbel"/>
              </a:rPr>
              <a:t>???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9" name="Picture 5" descr="damascus logo.jpg"/>
          <p:cNvPicPr/>
          <p:nvPr/>
        </p:nvPicPr>
        <p:blipFill>
          <a:blip r:embed="rId1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30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7960-201E-4E6B-861F-981B47369DF9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C:\Documents and Settings\moffatbs\My Documents\My Pictures\mw_LithostaticVsPorePres.gif"/>
          <p:cNvPicPr/>
          <p:nvPr/>
        </p:nvPicPr>
        <p:blipFill>
          <a:blip r:embed="rId2"/>
          <a:stretch/>
        </p:blipFill>
        <p:spPr>
          <a:xfrm>
            <a:off x="4800600" y="21337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C:\Documents and Settings\moffatbs\My Documents\My Pictures\mw_PorePres.gif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1143000" y="21337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"/>
          <p:cNvSpPr/>
          <p:nvPr/>
        </p:nvSpPr>
        <p:spPr>
          <a:xfrm>
            <a:off x="1447920" y="57150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ضغط الماء المسام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5257800" y="5715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قوى التماس بين الحبيب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8" descr="damascus logo.jpg"/>
          <p:cNvPicPr/>
          <p:nvPr/>
        </p:nvPicPr>
        <p:blipFill>
          <a:blip r:embed="rId4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2F38-081D-4371-8704-130B135ED07C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4"/>
          <p:cNvSpPr/>
          <p:nvPr/>
        </p:nvSpPr>
        <p:spPr>
          <a:xfrm>
            <a:off x="1508040" y="388620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0" name="Picture 30" descr="C:\Documents and Settings\moffatbs\My Documents\My Pictures\slide3.jpg"/>
          <p:cNvPicPr/>
          <p:nvPr/>
        </p:nvPicPr>
        <p:blipFill>
          <a:blip r:embed="rId2"/>
          <a:srcRect l="-176" t="-20192" r="-1185" b="-5364"/>
          <a:stretch/>
        </p:blipFill>
        <p:spPr>
          <a:xfrm>
            <a:off x="1600200" y="2514600"/>
            <a:ext cx="6629400" cy="3054240"/>
          </a:xfrm>
          <a:prstGeom prst="rect">
            <a:avLst/>
          </a:prstGeom>
          <a:ln w="0">
            <a:noFill/>
          </a:ln>
        </p:spPr>
      </p:pic>
      <p:sp>
        <p:nvSpPr>
          <p:cNvPr id="311" name="Oval 47"/>
          <p:cNvSpPr/>
          <p:nvPr/>
        </p:nvSpPr>
        <p:spPr>
          <a:xfrm>
            <a:off x="5715000" y="2438280"/>
            <a:ext cx="1981080" cy="2057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7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22D0-2D8D-407F-AA19-FC2232408A0F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طبيعة الترب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ature of Soi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مدى كثافة الترب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درجة الإشبا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سعة التحمي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oading Magnitud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لسعة اللازمة لكي تبدأ ظاهرة التميع بالظهور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مدى عمق الطبقة القابلة للتمي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نوع الحمولة الديناميكي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ype of Dynamic Loa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حمولة فجائية (تفجير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حمولة مستقرة متزايد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1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B278-AF79-4B44-A186-22C5D62F867A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تحريات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vestig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ركيب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اختبارات الجيوتكنيك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سجل التاريخي للمنطق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تقيي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.S. = CRR / CS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5" descr="C:\Documents and Settings\moffatbs\My Documents\My Pictures\dh4.jpg"/>
          <p:cNvPicPr/>
          <p:nvPr/>
        </p:nvPicPr>
        <p:blipFill>
          <a:blip r:embed="rId2"/>
          <a:stretch/>
        </p:blipFill>
        <p:spPr>
          <a:xfrm>
            <a:off x="1981080" y="2590920"/>
            <a:ext cx="1220760" cy="1904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22" name="Slide Number Placeholder 7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CD71-428F-44FC-96D7-5567759336C2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أضرا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وسع جانب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نهيا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المنحدر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Picture 4" descr="C:\Documents and Settings\moffatbs\My Documents\My Pictures\Landslide2.jpg"/>
          <p:cNvPicPr/>
          <p:nvPr/>
        </p:nvPicPr>
        <p:blipFill>
          <a:blip r:embed="rId2"/>
          <a:stretch/>
        </p:blipFill>
        <p:spPr>
          <a:xfrm>
            <a:off x="3124080" y="4343400"/>
            <a:ext cx="3200400" cy="2141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Documents and Settings\moffatbs\My Documents\My Pictures\crackhwy.jpg"/>
          <p:cNvPicPr/>
          <p:nvPr/>
        </p:nvPicPr>
        <p:blipFill>
          <a:blip r:embed="rId3"/>
          <a:stretch/>
        </p:blipFill>
        <p:spPr>
          <a:xfrm>
            <a:off x="609480" y="2514600"/>
            <a:ext cx="2895840" cy="2509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C:\Documents and Settings\moffatbs\My Documents\My Pictures\Liquefaction.jpg"/>
          <p:cNvPicPr/>
          <p:nvPr/>
        </p:nvPicPr>
        <p:blipFill>
          <a:blip r:embed="rId4"/>
          <a:stretch/>
        </p:blipFill>
        <p:spPr>
          <a:xfrm>
            <a:off x="2590920" y="1523880"/>
            <a:ext cx="3124080" cy="1671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B8A8-B2F7-4351-980A-C237B4D39087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9:35:52Z</dcterms:created>
  <dc:creator>Bellevue</dc:creator>
  <dc:description/>
  <dc:language>en-US</dc:language>
  <cp:lastModifiedBy>SaMeR</cp:lastModifiedBy>
  <dcterms:modified xsi:type="dcterms:W3CDTF">2010-06-11T01:27:27Z</dcterms:modified>
  <cp:revision>88</cp:revision>
  <dc:subject/>
  <dc:title>RISK MANAGEMENT</dc:title>
</cp:coreProperties>
</file>