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4.jpeg" ContentType="image/jpeg"/>
  <Override PartName="/ppt/media/image29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37.jpeg" ContentType="image/jpeg"/>
  <Override PartName="/ppt/media/image33.jpeg" ContentType="image/jpeg"/>
  <Override PartName="/ppt/media/image45.png" ContentType="image/png"/>
  <Override PartName="/ppt/media/image32.jpeg" ContentType="image/jpeg"/>
  <Override PartName="/ppt/media/image38.jpeg" ContentType="image/jpeg"/>
  <Override PartName="/ppt/media/image46.png" ContentType="image/png"/>
  <Override PartName="/ppt/media/image48.jpeg" ContentType="image/jpeg"/>
  <Override PartName="/ppt/media/image53.jpeg" ContentType="image/jpeg"/>
  <Override PartName="/ppt/media/image31.png" ContentType="image/png"/>
  <Override PartName="/ppt/media/image47.jpeg" ContentType="image/jpeg"/>
  <Override PartName="/ppt/media/image55.png" ContentType="image/png"/>
  <Override PartName="/ppt/media/image56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5.png" ContentType="image/png"/>
  <Override PartName="/ppt/media/image43.jpeg" ContentType="image/jpeg"/>
  <Override PartName="/ppt/media/image9.png" ContentType="image/png"/>
  <Override PartName="/ppt/media/image39.png" ContentType="image/png"/>
  <Override PartName="/ppt/media/image11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54.png" ContentType="image/pn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12760" y="694800"/>
            <a:ext cx="4633920" cy="347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8212BB5-A833-4CB0-AB11-61D177DB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Y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4B5D1E4-2925-40BD-B120-B6DB09F6F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1C69-4A5B-45CC-A5B0-A90A5D52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93E-A594-48FE-AAAF-C0D5AB7B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48DA-B5DE-49CF-9198-14D49499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C0-4D61-4530-ABC8-EC3AA05D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0A58-7DBE-41EC-A3E8-6BA7D9CE9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F3F9-2457-4FBD-ACE2-A733BBE2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4523-79CF-4385-9C9E-771CEDE4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C8A0-80B9-44D0-B10F-DEE4597A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152A-25B7-4E2D-9070-DB1B62A8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9A19-859E-4AE1-A35C-B84805A8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06C3-8B50-4CD4-A6C9-7A6B98F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B6B-859B-4F96-9303-172A7925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2C8E-395B-4DDC-8D03-937479A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852D-C46F-463E-ADA4-848C047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DE4-1F1C-4851-9A53-2549C01B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529D-8DE9-4D7D-96EE-6B17FCB8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9FC-D69C-4EC2-8239-4C0E8B89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56D75-DB0F-4733-BC13-7E9ABCD9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5B43-0AED-49FD-B4EF-DAA0D7E3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0B0FC-17DC-4FA4-B1DE-B9B7F7C5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0B49-3DCB-405B-90F4-9913542C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5A8A-CEB7-4CDE-AC34-9D7EB573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402-0EF6-4C7B-9DD3-FD310096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6F6F9-BF0C-40BD-BA29-C298D47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A25D-BBE7-4745-8B29-1295A144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59F8-742C-4867-8B84-6BF6AF07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EDFC-DDD2-46EF-BE52-7473591A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E5A6F-472D-4513-838B-63F61522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D266-F3A4-4FD3-8666-C4497C6D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7A9A-6B4A-4924-A7D8-4568A4A0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BC580-F096-42F2-BB52-BFA7BB59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EA31-2A61-4887-B93E-FF50CD9E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1467-0734-4313-B9FE-2E8CA53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3273-1651-47CC-9AB8-21285936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E4D74-63A3-4B6E-95A7-B6561B1C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744B-3F0D-4DDC-9B51-3075F038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94CE-2A63-4232-AAD0-58CF5483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141C5-1616-4094-85CB-310ECBEF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0A37-ACF4-47C5-AFE7-E4204F0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1CF4-18A7-4FAF-89B9-BD867733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86CD5-BCB1-4B2A-B2C6-39BC5C7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8AF8-12AF-43E8-88D5-FE490F84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CEDB9-6C21-44B0-9683-760E24C8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5E72-14D1-4972-B6A6-079BEEA2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364-1B8A-4176-B2BC-689489F0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EF3A2-B821-4322-8252-5B91FD4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AFD82-E826-46FC-B530-D6DAFFBC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B388-E7EE-4B59-8E91-AAE66A59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90ED3-6C60-482C-9918-6C46FECD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DEA7-6B57-44C8-990B-512D4327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8AA67-D099-43DF-B540-6619FAC9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5F34-B2F0-401A-8211-1D791FDC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9C3A-B282-489A-A8FB-FD56239D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58E3C-C4F2-4D9D-A1DD-BDFC180A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3BE7F-E1FB-4199-B1F0-99C7E43F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C16-4EDB-450F-BD0E-B9284A78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AB89-107E-46E2-A35B-728BF1CA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9CD4B-57BB-4AA7-8837-B9628A5F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FDCCD-D98C-4DF0-BFC2-C2EC6C8A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3558-88D1-4250-BA9B-1F6ECCC2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FD468-33D5-4921-B72D-23A47DE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8864-F6A7-49D5-8A7C-BE2F4613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B61E-E50B-4829-AD0A-919A8808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A6DBA-EA11-43BA-AD98-992579A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137AE-72DC-4E84-9E99-449E8EB1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BF762-1241-4139-991C-C17F6D3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DA6-B3D0-47C1-88DA-8F5ADDB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F9EEE-2D42-4051-A018-7C46C893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190A-5946-45A5-B016-FF98599F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4F8C-9962-4CF2-A24B-1676D1DF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C90-EA8A-4A50-859C-91DB844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613-E951-4441-899C-D650906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52C-3E89-47B5-BC4D-8D0723C86D0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24"/>
          <p:cNvSpPr/>
          <p:nvPr/>
        </p:nvSpPr>
        <p:spPr>
          <a:xfrm>
            <a:off x="380880" y="22860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" name="Picture 27" descr="JACOBSLOGO"/>
          <p:cNvPicPr/>
          <p:nvPr/>
        </p:nvPicPr>
        <p:blipFill>
          <a:blip r:embed="rId4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D925-A8E6-4189-900E-31140FCE1C4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CCAB-C200-436E-A04A-D98ED7C48A1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2757-655E-4EB4-845D-DB37228D431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570-593A-4BE5-9B4C-95D34460EB9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0" descr="JACOBSLOGO"/>
          <p:cNvPicPr/>
          <p:nvPr/>
        </p:nvPicPr>
        <p:blipFill>
          <a:blip r:embed="rId3"/>
          <a:srcRect l="0" t="7612" r="81120" b="2444"/>
          <a:stretch/>
        </p:blipFill>
        <p:spPr>
          <a:xfrm>
            <a:off x="8305920" y="6095880"/>
            <a:ext cx="511200" cy="4636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78C0-EA47-4D93-8A72-318A3757E48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2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png"/><Relationship Id="rId4" Type="http://schemas.openxmlformats.org/officeDocument/2006/relationships/image" Target="../media/image53.jpeg"/><Relationship Id="rId5" Type="http://schemas.openxmlformats.org/officeDocument/2006/relationships/image" Target="../media/image2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762120" y="195120"/>
            <a:ext cx="7437240" cy="164016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10"/>
          <p:cNvSpPr/>
          <p:nvPr/>
        </p:nvSpPr>
        <p:spPr>
          <a:xfrm>
            <a:off x="3733920" y="4419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f2f2f2"/>
                </a:solidFill>
                <a:latin typeface="Tahoma"/>
                <a:cs typeface="Tahoma"/>
              </a:rPr>
              <a:t>سامر سحتوت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4724280" y="571500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جامعة دمش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/20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685800" y="19810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ffffff"/>
                </a:solidFill>
                <a:latin typeface="Tahoma"/>
                <a:cs typeface="Tahoma"/>
              </a:rPr>
              <a:t>استخدام طرائق الرص العميق لتحسين الترب القابلة للتمي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838080" y="3200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lementation of Deep Compaction Techniques for Liquefiable Soil Remed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فع للأعل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وران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C:\Documents and Settings\moffatbs\My Documents\My Pictures\images.jpg"/>
          <p:cNvPicPr/>
          <p:nvPr/>
        </p:nvPicPr>
        <p:blipFill>
          <a:blip r:embed="rId2"/>
          <a:stretch/>
        </p:blipFill>
        <p:spPr>
          <a:xfrm>
            <a:off x="5257800" y="4038480"/>
            <a:ext cx="2743200" cy="205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C:\Documents and Settings\moffatbs\My Documents\My Pictures\liquefactionconcretetank.jpg"/>
          <p:cNvPicPr/>
          <p:nvPr/>
        </p:nvPicPr>
        <p:blipFill>
          <a:blip r:embed="rId3"/>
          <a:stretch/>
        </p:blipFill>
        <p:spPr>
          <a:xfrm>
            <a:off x="1219320" y="3733920"/>
            <a:ext cx="3733560" cy="2479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C:\Documents and Settings\moffatbs\My Documents\My Pictures\sandboil12.jpg"/>
          <p:cNvPicPr/>
          <p:nvPr/>
        </p:nvPicPr>
        <p:blipFill>
          <a:blip r:embed="rId4"/>
          <a:srcRect l="0" t="0" r="4514" b="6403"/>
          <a:stretch/>
        </p:blipFill>
        <p:spPr>
          <a:xfrm>
            <a:off x="1905120" y="1905120"/>
            <a:ext cx="3276360" cy="2192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0063-FC16-4EB6-AA64-75657BB1DF2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050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قصان قدرة تحم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هبوط الز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 التفاضل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2052" descr="C:\Documents and Settings\moffatbs\My Documents\My Pictures\portdam.jpg"/>
          <p:cNvPicPr/>
          <p:nvPr/>
        </p:nvPicPr>
        <p:blipFill>
          <a:blip r:embed="rId2"/>
          <a:stretch/>
        </p:blipFill>
        <p:spPr>
          <a:xfrm>
            <a:off x="1066680" y="4648320"/>
            <a:ext cx="2819520" cy="18763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053" descr="C:\Documents and Settings\moffatbs\My Documents\My Pictures\tiltedbuilding2.jpg"/>
          <p:cNvPicPr/>
          <p:nvPr/>
        </p:nvPicPr>
        <p:blipFill>
          <a:blip r:embed="rId3"/>
          <a:srcRect l="0" t="0" r="5253" b="6742"/>
          <a:stretch/>
        </p:blipFill>
        <p:spPr>
          <a:xfrm>
            <a:off x="1371600" y="15238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055" descr="C:\Documents and Settings\moffatbs\My Documents\My Pictures\liquef_2.jpg"/>
          <p:cNvPicPr/>
          <p:nvPr/>
        </p:nvPicPr>
        <p:blipFill>
          <a:blip r:embed="rId4"/>
          <a:srcRect l="1693" t="44364" r="55070" b="6470"/>
          <a:stretch/>
        </p:blipFill>
        <p:spPr>
          <a:xfrm>
            <a:off x="3657600" y="3429000"/>
            <a:ext cx="2249640" cy="1836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3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5E80-0441-413A-9BD0-A6396F08134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بتعد“ – هجر الموقع؛ عدم البناء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موافقة“ – دفع تكاليف الصيان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ea typeface="Tahoma"/>
              </a:rPr>
              <a:t>”التأقلم“ – إنشائي؛ جيوتكنيك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A68-1B82-42ED-8F68-B43DB950C06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إنشائيا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طاوعة إضاف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ند مرن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وتاد ضخمة أو قيصونات قادرة على تحمل القوى الجانب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ساسات ذات صلادة عال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ربط الأساسات المنفردة مع بعضها لزيادة صلادت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1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0896-B202-4F51-BC00-95C784AB62D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جيوتكنيكي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5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6226-60F3-45FD-B82A-D784463286A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ستبدال الترب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4" descr="C:\Documents and Settings\moffatbs\My Documents\My Pictures\23.jpg"/>
          <p:cNvPicPr/>
          <p:nvPr/>
        </p:nvPicPr>
        <p:blipFill>
          <a:blip r:embed="rId2"/>
          <a:srcRect l="0" t="23471" r="0" b="0"/>
          <a:stretch/>
        </p:blipFill>
        <p:spPr>
          <a:xfrm>
            <a:off x="3886200" y="304812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C:\Documents and Settings\moffatbs\My Documents\My Pictures\CAW7IJ6J.jpg"/>
          <p:cNvPicPr/>
          <p:nvPr/>
        </p:nvPicPr>
        <p:blipFill>
          <a:blip r:embed="rId3"/>
          <a:stretch/>
        </p:blipFill>
        <p:spPr>
          <a:xfrm>
            <a:off x="1447920" y="5029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moffatbs\My Documents\My Pictures\test.jpg"/>
          <p:cNvPicPr/>
          <p:nvPr/>
        </p:nvPicPr>
        <p:blipFill>
          <a:blip r:embed="rId4"/>
          <a:stretch/>
        </p:blipFill>
        <p:spPr>
          <a:xfrm>
            <a:off x="1066680" y="1828800"/>
            <a:ext cx="3017880" cy="2765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2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209E-CF91-4C94-A76F-3BE6B8350E0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مساحات الصغ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أعماق القليل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نتفاء إمكانية حدوث التميع مجددا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رع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طريقة غير صديقة للبيئ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أحجام ترحيل وجلب كبير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زداد الكلفة كلما ازداد العمق و المساح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66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0E84-BF35-432A-828D-D5E1A7BD5C0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اهتزاز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Picture 4" descr="dry1"/>
          <p:cNvPicPr/>
          <p:nvPr/>
        </p:nvPicPr>
        <p:blipFill>
          <a:blip r:embed="rId2"/>
          <a:stretch/>
        </p:blipFill>
        <p:spPr>
          <a:xfrm>
            <a:off x="1066680" y="2819520"/>
            <a:ext cx="2219400" cy="251460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Picture 6" descr="dry2"/>
          <p:cNvPicPr/>
          <p:nvPr/>
        </p:nvPicPr>
        <p:blipFill>
          <a:blip r:embed="rId3"/>
          <a:stretch/>
        </p:blipFill>
        <p:spPr>
          <a:xfrm>
            <a:off x="3657600" y="3733920"/>
            <a:ext cx="2251080" cy="25146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9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Picture 8" descr="dry3"/>
          <p:cNvPicPr/>
          <p:nvPr/>
        </p:nvPicPr>
        <p:blipFill>
          <a:blip r:embed="rId4"/>
          <a:stretch/>
        </p:blipFill>
        <p:spPr>
          <a:xfrm>
            <a:off x="6248520" y="2819520"/>
            <a:ext cx="2225520" cy="25146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"/>
          <p:cNvSpPr/>
          <p:nvPr/>
        </p:nvSpPr>
        <p:spPr>
          <a:xfrm>
            <a:off x="838080" y="54864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مسبر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733920" y="32767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المواد المالئة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6172200" y="5410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نتهاء تشكيل العمود الرمل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8" name="Picture 16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1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3DB-4644-4423-95E7-94AB8CFAAF4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حبيبية العميقة ضعيفة التماس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الفعال للرص حتى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تي تحوي على نسبة من النواعم لاتزيد عن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12-15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هتزاز عادة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2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5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 دقائ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اهتزاز الأفقي أفضل من الاهتزاز الشاقولي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لكثافة النسبية التي يمكن الوصول لها 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7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90</a:t>
            </a: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2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3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3BEF-D402-4AE6-B7E9-E8A5B030941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 تترافق مع موجات صدم مؤذي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تؤمن التراص الدائم (حل جذري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اقتصادية و فعال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000" spc="-1" strike="noStrike">
                <a:solidFill>
                  <a:srgbClr val="000000"/>
                </a:solidFill>
                <a:latin typeface="Corbel"/>
                <a:cs typeface="Tahoma"/>
              </a:rPr>
              <a:t>العيوب أو السلبيات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وفر حد أدنى من الضغط الشاقولي في ا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ea typeface="Tahoma"/>
              </a:rPr>
              <a:t>(تربة عميقة نسبياً يعتمد على الجاذبية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مدى الانتشار الصغير (تتطلب عدد كبير من السبور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600" spc="-1" strike="noStrike">
                <a:solidFill>
                  <a:srgbClr val="000000"/>
                </a:solidFill>
                <a:latin typeface="Corbel"/>
                <a:cs typeface="Tahoma"/>
              </a:rPr>
              <a:t>لاتؤمن الأعمدة الرملية أي تقوية للتربة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7DA9-5713-4E10-826F-534D3979163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زايد السكان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رتفاع أسعار الأراضي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خاطر التأسيس على هذا النوع من التر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1" name="Picture 3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CB82-B4C1-4E08-9C27-38B28106E5C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517240" cy="14511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1066320" y="19810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ادة الردم ذات تدرج حبي جي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لا يتجاوز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6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حول المسب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باعدات بشكل عام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 من المرك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D0E7-2727-425C-B7A1-17CCBF26D0D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393" name="Vibro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0DED-7202-415E-A459-D459214FD03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بدال بالاهتزاز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ibro-Replac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371484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375768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37670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91440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دخال رأس الاهتزا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6553080" y="5791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ل العمود الحج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98160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Picture 13" descr="wettop1"/>
          <p:cNvPicPr/>
          <p:nvPr/>
        </p:nvPicPr>
        <p:blipFill>
          <a:blip r:embed="rId2"/>
          <a:stretch/>
        </p:blipFill>
        <p:spPr>
          <a:xfrm>
            <a:off x="990720" y="2666880"/>
            <a:ext cx="1584360" cy="198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6"/>
          <p:cNvSpPr/>
          <p:nvPr/>
        </p:nvSpPr>
        <p:spPr>
          <a:xfrm>
            <a:off x="398628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5" descr="wettop2"/>
          <p:cNvPicPr/>
          <p:nvPr/>
        </p:nvPicPr>
        <p:blipFill>
          <a:blip r:embed="rId3"/>
          <a:stretch/>
        </p:blipFill>
        <p:spPr>
          <a:xfrm>
            <a:off x="2819520" y="2971800"/>
            <a:ext cx="1582560" cy="19810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397656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8" name="Picture 17" descr="wettop3"/>
          <p:cNvPicPr/>
          <p:nvPr/>
        </p:nvPicPr>
        <p:blipFill>
          <a:blip r:embed="rId4"/>
          <a:stretch/>
        </p:blipFill>
        <p:spPr>
          <a:xfrm>
            <a:off x="4648320" y="3352680"/>
            <a:ext cx="1619280" cy="198144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20"/>
          <p:cNvSpPr/>
          <p:nvPr/>
        </p:nvSpPr>
        <p:spPr>
          <a:xfrm>
            <a:off x="398628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0" name="Picture 19" descr="wettop4"/>
          <p:cNvPicPr/>
          <p:nvPr/>
        </p:nvPicPr>
        <p:blipFill>
          <a:blip r:embed="rId5"/>
          <a:stretch/>
        </p:blipFill>
        <p:spPr>
          <a:xfrm>
            <a:off x="6553080" y="3733920"/>
            <a:ext cx="1592280" cy="198108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23"/>
          <p:cNvSpPr/>
          <p:nvPr/>
        </p:nvSpPr>
        <p:spPr>
          <a:xfrm>
            <a:off x="2743200" y="49528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تشكيل الحفرة بضخ الهواء او الما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46483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إضافة مادة الرد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3" name="Picture 2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2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64C-F8A5-4C18-9352-634E7C68B36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ناعمة و المتماسك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شبعة التي تحوي نسبة نواعم أكبر م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مق الرص يصل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18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330-7A84-4025-BF5A-E66E5A70329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 و الإيجا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تقوية دنيا ل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شكيل مصارات تصريف إضافية للميا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قدرة تحمل التربة على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ليل الهبوطات المتوقع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زيادة مقاومة القص للترب الغضارية الطر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1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C488-482F-41B0-8A06-70FF128AF64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سلبي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مكن أن تسد مسارات التصريف و تملئ بالمواد الناعم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عطي أي مقاومة لقوى الرف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 تفيد في حالات الخث الطري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oft Peat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أو الغضا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ay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فوق حد السيول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quid Lim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5" name="Picture 8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26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96B6-C072-4934-8EF2-72AD8BC11F5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066680" y="19807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ستخدام مادة ردم ذات تدرج حبي جيد و حبيبات حادة الشك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تجهيز الحفرة إما بالهواء المضغوط أي بضخ 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عمد مدى الفائدة على التباعد بين الحف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قطار عاد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7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دى التأثير يصل إلى أربع أضعاف قطر العمود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29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1CE9-5C5A-4064-A4D7-13B496E6555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32000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ضخ الماء/ التغذية العلو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كمية المياه الجارية كبي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595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4" descr="vibro-replacement_2_3_0001"/>
          <p:cNvPicPr/>
          <p:nvPr/>
        </p:nvPicPr>
        <p:blipFill>
          <a:blip r:embed="rId2"/>
          <a:srcRect l="4911" t="948" r="6096" b="3600"/>
          <a:stretch/>
        </p:blipFill>
        <p:spPr>
          <a:xfrm>
            <a:off x="762120" y="1676520"/>
            <a:ext cx="2620800" cy="3549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7"/>
          <p:cNvSpPr/>
          <p:nvPr/>
        </p:nvSpPr>
        <p:spPr>
          <a:xfrm>
            <a:off x="293832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6" descr="vibro-replacement_3_2_0001"/>
          <p:cNvPicPr/>
          <p:nvPr/>
        </p:nvPicPr>
        <p:blipFill>
          <a:blip r:embed="rId3"/>
          <a:srcRect l="1654" t="2658" r="1506" b="4421"/>
          <a:stretch/>
        </p:blipFill>
        <p:spPr>
          <a:xfrm>
            <a:off x="3505320" y="3886200"/>
            <a:ext cx="3751200" cy="27702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1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38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06D-2BA8-42A1-A2AA-DF8BEC762B8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بدائل.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جر المرصوص (الاستبدال الديناميكي)/ حفر محاطة بقمصان و يتم رمي الأحجار من الأعلى ثم يتم رصها ديناميك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صغيرة: بقطر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، أسرع في التنفيذ وتعطي توفيراً بالكلفة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2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عمدة الكبيرة: يستعمل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رؤوس اهتزاز في نفس الوقت و تصل مساحة العم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سم</a:t>
            </a:r>
            <a:r>
              <a:rPr b="0" lang="ar-SY" sz="2800" spc="-1" strike="noStrike" baseline="30000">
                <a:solidFill>
                  <a:srgbClr val="000000"/>
                </a:solidFill>
                <a:latin typeface="Corbel"/>
                <a:ea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41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CC63-168C-46D2-AAAC-368D74E7315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44" name="YouTube - Vibro Replacemnt - Top Feed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4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0639-36EF-40FF-9C99-3E83BB13B3F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مقدم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ميع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 و المخاط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تقنيات تقليل الاضرار و المخاط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انشائ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رق 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 u="sng">
                <a:solidFill>
                  <a:srgbClr val="c00000"/>
                </a:solidFill>
                <a:uFillTx/>
                <a:latin typeface="Corbel"/>
                <a:cs typeface="Tahoma"/>
              </a:rPr>
              <a:t>طرائق الرص العميق الحقلي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ستنتاجات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0D27-3F09-4809-B0E5-784F1FBB8431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الديناميكي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ynamic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363852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0" name="Picture 4" descr="deepcompac"/>
          <p:cNvPicPr/>
          <p:nvPr/>
        </p:nvPicPr>
        <p:blipFill>
          <a:blip r:embed="rId2"/>
          <a:srcRect l="0" t="0" r="7230" b="4644"/>
          <a:stretch/>
        </p:blipFill>
        <p:spPr>
          <a:xfrm>
            <a:off x="6705720" y="3200400"/>
            <a:ext cx="2203200" cy="28195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373860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Picture 6" descr="dc"/>
          <p:cNvPicPr/>
          <p:nvPr/>
        </p:nvPicPr>
        <p:blipFill>
          <a:blip r:embed="rId3"/>
          <a:stretch/>
        </p:blipFill>
        <p:spPr>
          <a:xfrm>
            <a:off x="457200" y="2895480"/>
            <a:ext cx="197820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9" descr="C:\Documents and Settings\moffatbs\My Documents\My Pictures\4901.jpg"/>
          <p:cNvPicPr/>
          <p:nvPr/>
        </p:nvPicPr>
        <p:blipFill>
          <a:blip r:embed="rId4"/>
          <a:stretch/>
        </p:blipFill>
        <p:spPr>
          <a:xfrm>
            <a:off x="4648320" y="2666880"/>
            <a:ext cx="1922400" cy="2819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C:\Documents and Settings\moffatbs\My Documents\My Pictures\DynamcCompB.jpg"/>
          <p:cNvPicPr/>
          <p:nvPr/>
        </p:nvPicPr>
        <p:blipFill>
          <a:blip r:embed="rId5"/>
          <a:stretch/>
        </p:blipFill>
        <p:spPr>
          <a:xfrm>
            <a:off x="2590920" y="3657600"/>
            <a:ext cx="1969920" cy="2782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3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56" name="Slide Number Placeholder 1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80CF-685F-4B58-8ED6-D1B595C4A77A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رمل المخلل، الردميات، مخلفات المناجم، الترب الانخفاسية، مكبات النفاي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صل العمق حت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2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تستخدم عادة في المناطق المأهول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سافة أمان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5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 عن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5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483E-1700-453F-A1FD-42AFB26AE33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09120" y="17524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عتبر رخيصة و غير مكلفة نسب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دائية جد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لعمل على عدة مسارات لتأمين الارتصاص المستم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د تؤدي إلى موجات صدم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المراقبة الجدية و المستمرة للهبوطات في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4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4D10-A32D-49F3-B8F6-9830CF10C609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تم السقوط من ارتفاع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-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36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مت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وزان تصل إلى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4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طن؛ شكل الوزن ليس له تأثي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تحديد مسارات الطرق لابد من توفر نتائج التحريات الجيوتكنيكية و خصوصاً وضعية الطبق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حد الأعلى الاقتصادي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0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ضربات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دراسة مدى تأثير الاهتزازت على المنشآت المحيط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وضع برنامج لعمل الرافع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1C65-17F0-404A-9D8C-D67FB7B8385C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0" name="YouTube - Dynamic Compaction.wmv" descr=""/>
          <p:cNvPicPr/>
          <p:nvPr/>
        </p:nvPicPr>
        <p:blipFill>
          <a:blip r:embed="rId2"/>
          <a:stretch/>
        </p:blipFill>
        <p:spPr>
          <a:xfrm>
            <a:off x="2838600" y="1801800"/>
            <a:ext cx="346680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2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8586-9302-4F9F-BBB7-61D8DB54A6E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6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74" name="Dynamic Compaction2.wmv" descr=""/>
          <p:cNvPicPr/>
          <p:nvPr/>
        </p:nvPicPr>
        <p:blipFill>
          <a:blip r:embed="rId2"/>
          <a:stretch/>
        </p:blipFill>
        <p:spPr>
          <a:xfrm>
            <a:off x="1523880" y="18018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5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C2DC-5794-43C4-9F3B-A0D5FA8B389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رص بالتفجير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losive Comp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31813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9" name="Picture 10" descr="C:\Documents and Settings\moffatbs\My Documents\My Pictures\Mt%20St%20helens.jpg"/>
          <p:cNvPicPr/>
          <p:nvPr/>
        </p:nvPicPr>
        <p:blipFill>
          <a:blip r:embed="rId1"/>
          <a:stretch/>
        </p:blipFill>
        <p:spPr>
          <a:xfrm>
            <a:off x="4114800" y="3962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9" descr="C:\Documents and Settings\moffatbs\My Documents\My Pictures\flash2-pic.jpg"/>
          <p:cNvPicPr/>
          <p:nvPr/>
        </p:nvPicPr>
        <p:blipFill>
          <a:blip r:embed="rId2"/>
          <a:srcRect l="0" t="2305" r="0" b="0"/>
          <a:stretch/>
        </p:blipFill>
        <p:spPr>
          <a:xfrm>
            <a:off x="609480" y="2438280"/>
            <a:ext cx="3733920" cy="2492640"/>
          </a:xfrm>
          <a:prstGeom prst="rect">
            <a:avLst/>
          </a:prstGeom>
          <a:ln w="0">
            <a:noFill/>
          </a:ln>
        </p:spPr>
      </p:pic>
      <p:pic>
        <p:nvPicPr>
          <p:cNvPr id="481" name="Rectangle 2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3" name="Slide Number Placeholder 1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0721-D76F-47A1-9E27-9C20E97C0AE7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قابلية التطبي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رب المخللة، عديمة التماسك، المشبعة بالماء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قابلة للتصريف بشكل ح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فعالية مع العم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8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711-92A0-4F1B-AAD5-9D6E2474081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عالجة كامل الطبقة القابلة ل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حدودة الانتشار ومسيطر علي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بالتصميم الجيد فإنه يمكن استخدامها فقط ضمن حدود المنشأ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89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1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D7CD-C41F-42D0-81CF-D7864F1D80FB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وجود نسبة من النواعم في التربة تعيق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طبقات ذات التماسك تمنع تسريب ضغط الماء الإضافي و تخمد الاهتزاز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أمين وقت فاصل بين كل تفجير و الذي يليه بحدود 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1</a:t>
            </a: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دق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تحليل كل طبقات التربة و معرفة خصائصها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C6E0-5B1E-4A80-9F76-CEDE92D5C0E2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3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عندما يختل التوازن الستاتيكي للتربة إما من خلال حمولة متكررة أو تحميل ديناميكي مما يجعل التربة تسلك سلوك اقرب إلى الأوساط السائلة و تبتعد عن كونها جسم صلب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9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96AE-919D-41BD-9D79-8E4E666A9596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جفي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مضخات العمي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آبار نخفيض الضغط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خناد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أنظمة التصري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70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499" name="Slide Number Placeholder 10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1F1A-4855-465E-8180-EACB0252DEE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أنظمة تصريف المياه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01" name="Picture 4" descr="northernwick2"/>
          <p:cNvPicPr/>
          <p:nvPr/>
        </p:nvPicPr>
        <p:blipFill>
          <a:blip r:embed="rId1"/>
          <a:srcRect l="1064" t="530" r="641" b="2167"/>
          <a:stretch/>
        </p:blipFill>
        <p:spPr>
          <a:xfrm>
            <a:off x="609480" y="1752480"/>
            <a:ext cx="4038840" cy="2273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C:\Documents and Settings\moffatbs\My Documents\My Pictures\drain_01.jpg"/>
          <p:cNvPicPr/>
          <p:nvPr/>
        </p:nvPicPr>
        <p:blipFill>
          <a:blip r:embed="rId2"/>
          <a:stretch/>
        </p:blipFill>
        <p:spPr>
          <a:xfrm>
            <a:off x="5638680" y="2590920"/>
            <a:ext cx="2527560" cy="38098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:\Documents and Settings\moffatbs\My Documents\My Pictures\Drain_02.bmp"/>
          <p:cNvPicPr/>
          <p:nvPr/>
        </p:nvPicPr>
        <p:blipFill>
          <a:blip r:embed="rId3"/>
          <a:stretch/>
        </p:blipFill>
        <p:spPr>
          <a:xfrm>
            <a:off x="2895480" y="4495680"/>
            <a:ext cx="3048120" cy="20289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C:\Documents and Settings\moffatbs\My Documents\My Pictures\Drain_03.jpg"/>
          <p:cNvPicPr/>
          <p:nvPr/>
        </p:nvPicPr>
        <p:blipFill>
          <a:blip r:embed="rId4"/>
          <a:srcRect l="0" t="0" r="0" b="1312"/>
          <a:stretch/>
        </p:blipFill>
        <p:spPr>
          <a:xfrm>
            <a:off x="304920" y="3809880"/>
            <a:ext cx="2836800" cy="1978200"/>
          </a:xfrm>
          <a:prstGeom prst="rect">
            <a:avLst/>
          </a:prstGeom>
          <a:ln w="0">
            <a:noFill/>
          </a:ln>
        </p:spPr>
      </p:pic>
      <p:pic>
        <p:nvPicPr>
          <p:cNvPr id="505" name="Rectangle 2" descr=""/>
          <p:cNvPicPr/>
          <p:nvPr/>
        </p:nvPicPr>
        <p:blipFill>
          <a:blip r:embed="rId5"/>
          <a:stretch/>
        </p:blipFill>
        <p:spPr>
          <a:xfrm>
            <a:off x="450720" y="79200"/>
            <a:ext cx="8480520" cy="13352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1" descr="damascus logo.jpg"/>
          <p:cNvPicPr/>
          <p:nvPr/>
        </p:nvPicPr>
        <p:blipFill>
          <a:blip r:embed="rId6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12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072-D06D-42DD-AB68-4CF1DF29F7F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 txBox="1"/>
          <p:nvPr/>
        </p:nvSpPr>
        <p:spPr>
          <a:xfrm>
            <a:off x="990360" y="1881360"/>
            <a:ext cx="7543800" cy="487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فوائد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إلغاء قابلية التمي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قصير طول مسار التصريف الطبيعي و دعم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ريع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يوب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في حال الهزات الشديدة قد تكون سرعة التصريف أقل من سرعة تولد الضغط المسام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حصول الهبوطات؛ تأمين المطاوعة الكافية إنشائي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 algn="r" rtl="1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تطلب نظام تصريف ثانوي سطح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0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AD9A-B483-4AC5-A1A3-53CEB967F51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عتبارات تطبيقي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عادة ما تستعمل مع طريقة أخرى من المذكورين سابقا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فاذية المصرف يجب أن تكون أكبر من نفاذية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أن نضمن عملها من خلال تصميمها بفراغات لايمكن أن تسد بحيبات التربة و تسمح للحبيبات الناعمة بالمرو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لابد من اختبارها و التأكد من عدم انسدادها اثناء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3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97DF-2E35-45F3-BE86-66D38D3FC1C5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1066320" y="19807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عوامل المؤثرة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خصائص التربة في الموق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هولة التنفي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أثر البيئ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تأثيرات على المنشآت المجاور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منشأ و أهمي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عمق المطلوب معالجته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كلفة الاقتصاد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8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B0B-4C70-4621-9916-C171B014A870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اجراءات الواجب اتباعها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يجب اجراء التجارب الحقلية قبل و بعد اجراء المعالجة و ذلك لمعرفة مقدار التحسين الحاصل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لاختراق النظامي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ربة اختراق المخروط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P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تجارب التحميل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من المهم إجراء التحريات و الاختبارات الجيوتكنيكية اللازمة للموقع قبل اختيار طريقة المعالجة للترب القابلة للتميع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614C-15F0-49DF-8878-D6FBC55A169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517240" cy="14274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Practical Foundation Engineering Handbook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Brown, Robert Wade, McGraw-Hill, Inc., New York, NY 1995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Soil Remediation Techniques for Reduction of Earthquake-Induced Liquefac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 Barbara S. Moffat, PE,  Jacobs Civil Inc. American Society of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Civi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Engineers2006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Corbel"/>
              </a:rPr>
              <a:t>Handbook on Liquefaction Remediation of Reclaimed Land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Edited by Port and Harbour Research Institute, Ministry of Transport, Japan; Translated by US Army Corps of Engineers, USA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A.A.Balkema, Rotterdam, Netherlands (1997)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rtl="1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6" name="Picture 4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2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5E52-6983-4F9C-B3D4-66D926936893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9600" spc="-1" strike="noStrike">
                <a:solidFill>
                  <a:srgbClr val="000000"/>
                </a:solidFill>
                <a:latin typeface="Corbel"/>
              </a:rPr>
              <a:t>???</a:t>
            </a:r>
            <a:endParaRPr b="0" lang="en-US" sz="9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9" name="Picture 5" descr="damascus logo.jpg"/>
          <p:cNvPicPr/>
          <p:nvPr/>
        </p:nvPicPr>
        <p:blipFill>
          <a:blip r:embed="rId1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FCE-3A40-462F-B4E1-195618455C3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Documents and Settings\moffatbs\My Documents\My Pictures\mw_LithostaticVsPorePres.gif"/>
          <p:cNvPicPr/>
          <p:nvPr/>
        </p:nvPicPr>
        <p:blipFill>
          <a:blip r:embed="rId2"/>
          <a:stretch/>
        </p:blipFill>
        <p:spPr>
          <a:xfrm>
            <a:off x="4800600" y="21337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Documents and Settings\moffatbs\My Documents\My Pictures\mw_PorePres.gif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1143000" y="21337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"/>
          <p:cNvSpPr/>
          <p:nvPr/>
        </p:nvSpPr>
        <p:spPr>
          <a:xfrm>
            <a:off x="1447920" y="57150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ضغط الماء المسام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257800" y="5715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Tahoma"/>
                <a:cs typeface="Tahoma"/>
              </a:rPr>
              <a:t>قوى التماس بين الحبيب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6" name="Picture 8" descr="damascus logo.jpg"/>
          <p:cNvPicPr/>
          <p:nvPr/>
        </p:nvPicPr>
        <p:blipFill>
          <a:blip r:embed="rId4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4ADD-6F3A-4C0B-B327-6962D863CB08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1508040" y="388620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0" name="Picture 30" descr="C:\Documents and Settings\moffatbs\My Documents\My Pictures\slide3.jpg"/>
          <p:cNvPicPr/>
          <p:nvPr/>
        </p:nvPicPr>
        <p:blipFill>
          <a:blip r:embed="rId2"/>
          <a:srcRect l="-176" t="-20192" r="-1185" b="-5364"/>
          <a:stretch/>
        </p:blipFill>
        <p:spPr>
          <a:xfrm>
            <a:off x="1600200" y="2514600"/>
            <a:ext cx="6629400" cy="3054240"/>
          </a:xfrm>
          <a:prstGeom prst="rect">
            <a:avLst/>
          </a:prstGeom>
          <a:ln w="0">
            <a:noFill/>
          </a:ln>
        </p:spPr>
      </p:pic>
      <p:sp>
        <p:nvSpPr>
          <p:cNvPr id="311" name="Oval 47"/>
          <p:cNvSpPr/>
          <p:nvPr/>
        </p:nvSpPr>
        <p:spPr>
          <a:xfrm>
            <a:off x="5715000" y="2438280"/>
            <a:ext cx="1981080" cy="2057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2" name="Picture 7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8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ADA7-FA76-459A-9746-55404E470FB4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طبيعة الترب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ature of So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كثافة الترب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درجة الإشبا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سعة التحمي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oading Magnitud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السعة اللازمة لكي تبدأ ظاهرة التميع بالظهور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مدى عمق الطبقة القابلة للتمي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نوع الحمولة الديناميكي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ype of Dynamic Loa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فجائية (تفجير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400" spc="-1" strike="noStrike">
                <a:solidFill>
                  <a:srgbClr val="000000"/>
                </a:solidFill>
                <a:latin typeface="Corbel"/>
                <a:cs typeface="Tahoma"/>
              </a:rPr>
              <a:t>حمولة مستقرة متزايدة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5" descr="damascus logo.jpg"/>
          <p:cNvPicPr/>
          <p:nvPr/>
        </p:nvPicPr>
        <p:blipFill>
          <a:blip r:embed="rId2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17" name="Slide Number Placeholder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E86-D77B-4DEB-9EC4-570901A4A9CE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حريات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vestig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ركيب الترب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اختبارات الجيوتكنيكي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لسجل التاريخي للمنطقة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تقيي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.S. = CRR / CS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C:\Documents and Settings\moffatbs\My Documents\My Pictures\dh4.jpg"/>
          <p:cNvPicPr/>
          <p:nvPr/>
        </p:nvPicPr>
        <p:blipFill>
          <a:blip r:embed="rId2"/>
          <a:stretch/>
        </p:blipFill>
        <p:spPr>
          <a:xfrm>
            <a:off x="1981080" y="2590920"/>
            <a:ext cx="1220760" cy="1904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damascus logo.jpg"/>
          <p:cNvPicPr/>
          <p:nvPr/>
        </p:nvPicPr>
        <p:blipFill>
          <a:blip r:embed="rId3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7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90EE-A05C-4783-81A4-0EA597098A8F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54712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rbel"/>
                <a:cs typeface="Tahoma"/>
              </a:rPr>
              <a:t>الأضرار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توسع جانبي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cs typeface="Tahoma"/>
              </a:rPr>
              <a:t>انهيا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rbel"/>
                <a:ea typeface="Tahoma"/>
              </a:rPr>
              <a:t> المنحدرات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Picture 4" descr="C:\Documents and Settings\moffatbs\My Documents\My Pictures\Landslide2.jpg"/>
          <p:cNvPicPr/>
          <p:nvPr/>
        </p:nvPicPr>
        <p:blipFill>
          <a:blip r:embed="rId2"/>
          <a:stretch/>
        </p:blipFill>
        <p:spPr>
          <a:xfrm>
            <a:off x="3124080" y="4343400"/>
            <a:ext cx="3200400" cy="214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Documents and Settings\moffatbs\My Documents\My Pictures\crackhwy.jpg"/>
          <p:cNvPicPr/>
          <p:nvPr/>
        </p:nvPicPr>
        <p:blipFill>
          <a:blip r:embed="rId3"/>
          <a:stretch/>
        </p:blipFill>
        <p:spPr>
          <a:xfrm>
            <a:off x="609480" y="2514600"/>
            <a:ext cx="2895840" cy="25099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C:\Documents and Settings\moffatbs\My Documents\My Pictures\Liquefaction.jpg"/>
          <p:cNvPicPr/>
          <p:nvPr/>
        </p:nvPicPr>
        <p:blipFill>
          <a:blip r:embed="rId4"/>
          <a:stretch/>
        </p:blipFill>
        <p:spPr>
          <a:xfrm>
            <a:off x="2590920" y="1523880"/>
            <a:ext cx="3124080" cy="16718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damascus logo.jpg"/>
          <p:cNvPicPr/>
          <p:nvPr/>
        </p:nvPicPr>
        <p:blipFill>
          <a:blip r:embed="rId5"/>
          <a:stretch/>
        </p:blipFill>
        <p:spPr>
          <a:xfrm>
            <a:off x="8229600" y="5913360"/>
            <a:ext cx="914400" cy="944640"/>
          </a:xfrm>
          <a:prstGeom prst="rect">
            <a:avLst/>
          </a:prstGeom>
          <a:ln w="0">
            <a:noFill/>
          </a:ln>
        </p:spPr>
      </p:pic>
      <p:sp>
        <p:nvSpPr>
          <p:cNvPr id="329" name="Slide Number Placeholder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6DD8-3B55-4633-9EDB-9B011F33AC0D}" type="slidenum">
              <a:rPr b="0" lang="en-US" sz="1200" spc="-1" strike="noStrike">
                <a:solidFill>
                  <a:srgbClr val="3f3f3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9:35:52Z</dcterms:created>
  <dc:creator>Bellevue</dc:creator>
  <dc:description/>
  <dc:language>en-US</dc:language>
  <cp:lastModifiedBy>SaMeR</cp:lastModifiedBy>
  <dcterms:modified xsi:type="dcterms:W3CDTF">2010-06-11T01:27:27Z</dcterms:modified>
  <cp:revision>88</cp:revision>
  <dc:subject/>
  <dc:title>RISK MANAGEMENT</dc:title>
</cp:coreProperties>
</file>